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180-EF1F-48D9-90F0-23044B6F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7A7-214E-422D-BBF4-B2CB05D4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FE0-80D0-404A-96B3-44B427FA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BE6-2CD3-4DC8-A68E-41596E11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A35D-3745-4478-9D9E-FB841858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96DC-3D64-46E8-BDC1-50D84EA0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0382-2A3E-4852-9C63-2958A0D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CDA7-3D93-4838-80C2-2C1685F8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6027-68EF-43F9-BCAF-5E061948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AC9D-1B8B-4DF0-865B-2FD1BD9D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D637-2AE6-4054-AE4E-1C178DAA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DD2-07BE-412D-BE63-D7275CA5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59C3-F240-472F-8A70-EAE6E585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437E-742E-4E16-9E70-384BAD59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B8A9-08E1-47C9-B8C7-AF6827E1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F5EC-FD4A-4CC8-8972-06022F47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B3AE-DDF5-49BB-9A1B-00A2D84F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FA2-B97F-4DEE-9828-455869FC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03A-2453-472D-99D4-843E1E47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061-82D1-4AA8-A112-64B0288E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BF4-F53B-468F-BE26-7778C6CB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C77-3FB6-41FE-A60D-BB1FC9E2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BA7-3101-420C-A160-08AC0B3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DC5-C0E5-4178-A09E-47F6F7F4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51D2-4F3C-4310-95F9-C2CE202D79C4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6159-19B2-4E9C-B161-A4ECE42BBA4E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Marketing" TargetMode="External"/><Relationship Id="rId2" Type="http://schemas.openxmlformats.org/officeDocument/2006/relationships/hyperlink" Target="http://pl.wikipedia.org/wiki/Produkt_(marketing)" TargetMode="External"/><Relationship Id="rId3" Type="http://schemas.openxmlformats.org/officeDocument/2006/relationships/hyperlink" Target="http://pl.wikipedia.org/wiki/Rynek_(ekonomia)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ykl życia produk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ykl życia produkt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– pojęcie z teorii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rketing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oznaczające okres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tórym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roduk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jest obecny na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rynk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Innymi słowy jest to rynkowy cykl życia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ykl ten składa się z czterech fa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prowadzenie na ryn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zrost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sycenie / dojrzałoś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padek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060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068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76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157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308640"/>
            <a:ext cx="748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: http://pl.wikipedia.org/wiki/Cykl_%C5%BCycia_produ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9:34:06Z</dcterms:created>
  <dc:creator>Kasia</dc:creator>
  <dc:description/>
  <dc:language>en-US</dc:language>
  <cp:lastModifiedBy>Kasia</cp:lastModifiedBy>
  <dcterms:modified xsi:type="dcterms:W3CDTF">2013-01-27T19:40:55Z</dcterms:modified>
  <cp:revision>1</cp:revision>
  <dc:subject/>
  <dc:title>Cykl życia produktu</dc:title>
</cp:coreProperties>
</file>